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6936-654C-4DED-B9DD-920790B3A4E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D64B-BD56-4492-B6CC-5B9B175EA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I not auto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I not auto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2ED-43D9-43C4-9D68-0CE27B7F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D9C6-A40E-4E2D-B3BC-D60E6E73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9AD-99A2-4EF5-97EE-34EB3AA1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71D-CBE5-4928-B7D8-07A3F4A2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BE8B-BE87-4CAC-BF72-91E7675A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954D-2E3F-4336-81B0-E30CF39E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FD91-74BC-469C-A0DF-4AB7E194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E1BE-A240-43A7-B4CC-7A38D44E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6FB-3A53-4FA4-9697-C2EA6D2A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45F7-BEF8-472E-AD8F-1243CC1E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BDE2-84DB-4F4E-8005-754ECAC0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6A7F-D0C5-4401-B14F-08C1302D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F7FC-D614-45BB-96BF-CA677E83A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219320"/>
            <a:ext cx="838188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ware: Its latest development using Moose and Bio::Chado::Sch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dhartha B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ty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ictybas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for Genetic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western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34"/>
          <p:cNvSpPr/>
          <p:nvPr/>
        </p:nvSpPr>
        <p:spPr>
          <a:xfrm>
            <a:off x="914400" y="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Web application(Literature cu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35"/>
          <p:cNvSpPr/>
          <p:nvPr/>
        </p:nvSpPr>
        <p:spPr>
          <a:xfrm>
            <a:off x="385920" y="60948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066680"/>
            <a:ext cx="830592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34"/>
          <p:cNvSpPr/>
          <p:nvPr/>
        </p:nvSpPr>
        <p:spPr>
          <a:xfrm>
            <a:off x="91440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Command lin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35"/>
          <p:cNvSpPr/>
          <p:nvPr/>
        </p:nvSpPr>
        <p:spPr>
          <a:xfrm>
            <a:off x="3859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447920"/>
            <a:ext cx="731520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ation(from pubm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ort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 ontology(obo 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 GAF 1.0/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ort GA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34"/>
          <p:cNvSpPr/>
          <p:nvPr/>
        </p:nvSpPr>
        <p:spPr>
          <a:xfrm>
            <a:off x="914400" y="7632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Experimental builder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5"/>
          <p:cNvSpPr/>
          <p:nvPr/>
        </p:nvSpPr>
        <p:spPr>
          <a:xfrm>
            <a:off x="380880" y="609480"/>
            <a:ext cx="822492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219320"/>
            <a:ext cx="7239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package Modware::Publication::Pubm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use Modware::Ch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bcs_resultset ‘Pub::Pub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ha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$_ for qw/title pages issue volume/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 ‘pub_id’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=&gt; (column =&gt; ‘primary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 ‘year’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=&gt; (column =&gt; ‘pyear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 ‘pubmed_id’     =&gt; (column =&gt; ‘uniquename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1143000"/>
            <a:ext cx="716256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typ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‘type’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=&gt; (cv =&gt; ‘pub_type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propert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‘abstract’  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v =&gt; ‘pub_type’, cvterm =&gt; ‘pub_abstract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_many ‘authors’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lass =&gt; ‘Modware::Publication::Author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2120" y="1143000"/>
            <a:ext cx="716256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typ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‘type’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=&gt; (cv =&gt; ‘pub_type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propert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‘abstract’  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v =&gt; ‘pub_type’, cvterm =&gt; ‘pub_abstract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_many ‘authors’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lass =&gt; ‘Modware::Publication::Author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1676520"/>
            <a:ext cx="7543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package Modware::Chado::Sto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use Modware::Ch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bcs_resultset ‘Stock::Sto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dbxref   ‘id’ =&gt; (db =&gt; ‘Stock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belongs_to ‘organism’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lass =&gt; ‘Modware::Chado::Organism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34"/>
          <p:cNvSpPr/>
          <p:nvPr/>
        </p:nvSpPr>
        <p:spPr>
          <a:xfrm>
            <a:off x="914400" y="2286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Proje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5"/>
          <p:cNvSpPr/>
          <p:nvPr/>
        </p:nvSpPr>
        <p:spPr>
          <a:xfrm>
            <a:off x="385920" y="76212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447920"/>
            <a:ext cx="830592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github.com/cybersiddhu/Mo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gmod.org/wiki/Mo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mod-ware-users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34"/>
          <p:cNvSpPr/>
          <p:nvPr/>
        </p:nvSpPr>
        <p:spPr>
          <a:xfrm>
            <a:off x="914400" y="763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Related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80880" y="685800"/>
            <a:ext cx="822492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16765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jolicious::Plugin::Caching (in CP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search.cpan.org/dist/Mojolicious-Plugin-Ca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jolicious::PluginBu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MLConf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ware::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tTagHel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github.com/cybersiddhu/Mojolicious-PluginBu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09120" y="990360"/>
            <a:ext cx="350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cty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x Chisho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ren Kib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ic J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ulia Bushman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tra F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cale Gau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b Dod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990720" y="763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54321"/>
                </a:solidFill>
                <a:latin typeface="Arial"/>
                <a:ea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>
            <a:off x="5335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1692360"/>
            <a:ext cx="396216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S(Bio::Chado::Schema)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MO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M for chado/biological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des chado specific storage 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nk about Gene/Protein, Alignment, Publication, Ontology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rch/Finder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versal API between biological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tibility with other API(e.g bioper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command lin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of MVC web applications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yst/Mojo/Dancer et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34"/>
          <p:cNvSpPr/>
          <p:nvPr/>
        </p:nvSpPr>
        <p:spPr>
          <a:xfrm>
            <a:off x="380880" y="2286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54321"/>
                </a:solidFill>
                <a:latin typeface="Arial"/>
                <a:ea typeface="Arial"/>
              </a:rPr>
              <a:t>Modware - </a:t>
            </a: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Chado</a:t>
            </a:r>
            <a:r>
              <a:rPr b="1" lang="en-US" sz="2200" spc="-1" strike="noStrike">
                <a:solidFill>
                  <a:srgbClr val="654321"/>
                </a:solidFill>
                <a:latin typeface="Arial"/>
                <a:ea typeface="Arial"/>
              </a:rPr>
              <a:t> middle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35"/>
          <p:cNvSpPr/>
          <p:nvPr/>
        </p:nvSpPr>
        <p:spPr>
          <a:xfrm>
            <a:off x="385920" y="76212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ed with Class::DBI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release of Class::DBI module (4 years b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s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ed with dictyBase data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on Bio::Chado::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ose for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ation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34"/>
          <p:cNvSpPr/>
          <p:nvPr/>
        </p:nvSpPr>
        <p:spPr>
          <a:xfrm>
            <a:off x="380880" y="2286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54321"/>
                </a:solidFill>
                <a:latin typeface="Arial"/>
                <a:ea typeface="Arial"/>
              </a:rPr>
              <a:t>Modware - Chado middle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35"/>
          <p:cNvSpPr/>
          <p:nvPr/>
        </p:nvSpPr>
        <p:spPr>
          <a:xfrm>
            <a:off x="3859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34"/>
          <p:cNvSpPr/>
          <p:nvPr/>
        </p:nvSpPr>
        <p:spPr>
          <a:xfrm>
            <a:off x="914400" y="7632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4321"/>
                </a:solidFill>
                <a:latin typeface="Arial"/>
                <a:ea typeface="Arial"/>
              </a:rPr>
              <a:t>Modware Data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35"/>
          <p:cNvSpPr/>
          <p:nvPr/>
        </p:nvSpPr>
        <p:spPr>
          <a:xfrm>
            <a:off x="380880" y="609480"/>
            <a:ext cx="822492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762120"/>
            <a:ext cx="862812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600" spc="-1" strike="noStrike">
                <a:solidFill>
                  <a:srgbClr val="3300ff"/>
                </a:solidFill>
                <a:latin typeface="Arial"/>
                <a:ea typeface="Arial"/>
              </a:rPr>
              <a:t>use aliased ‘Modware::DataSource::Chado’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connect(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sn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dbi:Pg:database=mymo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user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password  =&gt; ‘password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connect(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sn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dbi:Oracle:sid=mymo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user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password  =&gt; ‘passwor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ttr             =&gt; { AutoCommit =&gt; 1, LongTruncOk =&gt; 1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connect( dsn =&gt; ‘dbi:SQLite:database=mydb.sqlite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t/Set through Bio::Chado::Schema(BC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y $bcs = Chado-&gt;handl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handler(Bio::Chado::Schema-&gt;connect($dsn,$user,$pass,$attr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34"/>
          <p:cNvSpPr/>
          <p:nvPr/>
        </p:nvSpPr>
        <p:spPr>
          <a:xfrm>
            <a:off x="914400" y="763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CRUD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5"/>
          <p:cNvSpPr/>
          <p:nvPr/>
        </p:nvSpPr>
        <p:spPr>
          <a:xfrm>
            <a:off x="385920" y="60948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838080"/>
            <a:ext cx="7848720" cy="55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 Modware::Publication::Pubm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 Modware::Publication::Author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y $pub = Modware::Publication::Pubmed-&gt;new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year     =&gt; 201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tatus  =&gt; ‘publishe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v        =&gt;  ‘pub_type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pubmed_id(332228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journal(‘JBC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abstract(‘This is a cool abstarct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title(‘Charmin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add_author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odware::Publication::Author-&gt;new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L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Johnson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initials       =&gt; ‘Mr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52280"/>
            <a:ext cx="7315200" cy="63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my $new_pub = $pub-&gt;sav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new_pub-&gt;add_author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{    first_name =&gt; ‘Je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Seinfel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initials        =&gt; ‘Mr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uffix         =&gt; ‘Jr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}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medline_id(127820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full_text_url(‘http://journal.org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title(‘Charmin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$new_pub-&gt;sav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new_pub-&gt;dele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CS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y $bcs = $new_pub-&gt;db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34"/>
          <p:cNvSpPr/>
          <p:nvPr/>
        </p:nvSpPr>
        <p:spPr>
          <a:xfrm>
            <a:off x="914400" y="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Finder/Search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5"/>
          <p:cNvSpPr/>
          <p:nvPr/>
        </p:nvSpPr>
        <p:spPr>
          <a:xfrm>
            <a:off x="385920" y="53352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57200"/>
            <a:ext cx="822960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rieve singl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 = Modware::Chado::Publication-&gt;find(2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 = Modware::Chado::Publication-&gt;find_by_pubmed_id(3229830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rieve multipl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@pubs = Modware::Chado::Publication-&gt;search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H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Williams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journal       =&gt; ‘EMBO journa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itr = Modware::Chado::Publication-&gt;search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H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Williams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journal       =&gt; ‘EMBO journa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while(my $pub = $itr-&gt;nex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tit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journ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228600"/>
            <a:ext cx="8229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@authors = $pub-&gt;authors;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or my $author(@author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author-&gt;first_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count = Modware::Chado::Publication-&gt;count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H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Williams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journal       =&gt; ‘EMBO journa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odware::Chado::Publication-&gt;search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%opt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ond =&gt; { clause =&gt; ‘OR’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odware::Chado::Publication-&gt;search( title =&gt; ‘genomics*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34"/>
          <p:cNvSpPr/>
          <p:nvPr/>
        </p:nvSpPr>
        <p:spPr>
          <a:xfrm>
            <a:off x="914400" y="763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Web application (List of pub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35"/>
          <p:cNvSpPr/>
          <p:nvPr/>
        </p:nvSpPr>
        <p:spPr>
          <a:xfrm>
            <a:off x="3859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143000"/>
            <a:ext cx="8534160" cy="5105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21:33:32Z</dcterms:created>
  <dc:creator>Eric Just</dc:creator>
  <dc:description/>
  <dc:language>en-US</dc:language>
  <cp:lastModifiedBy>Siddhartha Basu</cp:lastModifiedBy>
  <dcterms:modified xsi:type="dcterms:W3CDTF">2011-03-06T17:30:36Z</dcterms:modified>
  <cp:revision>312</cp:revision>
  <dc:subject/>
  <dc:title>Slide 1</dc:title>
</cp:coreProperties>
</file>